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234-2791-405C-897E-82EAB6F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6F1-5F99-4B06-B95F-2ADB4DB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B4A-F94E-4164-BB74-76579493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9BF-8DE5-43C1-A7D4-5FB70CBD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841-A882-41C1-B0B8-D5DCB9A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E47-53EA-4D68-B9FE-461B55B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BC8-0347-463E-AFDC-D33BD1CA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85D-9BF2-4316-A626-C729C07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B82-68A3-47B1-B042-803164CF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36E-6613-4FEB-A39E-9DF5AFD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0D1-D400-43E4-A599-FA218938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765-AAB6-4592-A6B2-F560F2F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A869-AF46-432D-904A-A29131E9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ingles-escrito-uah-08.wikispace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TO JOIN THIS WIKISPACES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te your account at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ck a very clear and distinctive user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e.g. my username is guzman-man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 your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er you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gles-escrito-uah-08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ick on JOIN THIS SPACE (top left cor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ait until I confirm you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2:17:07Z</dcterms:created>
  <dc:creator>**</dc:creator>
  <dc:description/>
  <dc:language>en-US</dc:language>
  <cp:lastModifiedBy>**</cp:lastModifiedBy>
  <dcterms:modified xsi:type="dcterms:W3CDTF">2008-09-10T08:57:48Z</dcterms:modified>
  <cp:revision>4</cp:revision>
  <dc:subject/>
  <dc:title>HOW TO JOIN THIS WIKISPACES WIKI</dc:title>
</cp:coreProperties>
</file>